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6298-E5B9-4F1D-825E-989F77FEB8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7D17-C5FE-4CD4-B4E2-BFF7093F1BA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0A0A-FFE8-46E5-9385-88CC84710F0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76D4-AABE-44A2-BFB0-34EA4BF7630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F6AC-DD80-45D5-A75B-061728D3A1C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1ACB-D472-4587-8334-A1F95163C3A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3286-C953-4FD4-98ED-FFAE59A56B8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A58C-5D85-4400-82CA-48A1D37FFA6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297E-01C6-4AA6-9400-3B693BE20D0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9B53-4865-4462-A5F4-96C2D6C5BED5}"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4F2D-8630-4177-A8A2-11E8DA5C25F4}"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BDC01-5FAF-4BBF-9DF0-58C17D71F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70EA4-2281-4A28-BA13-E3AE3E2A7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324BA-E815-4C11-A339-707051826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102E7-F7B6-4B00-8204-3B1CC98D2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0E55A-40BD-478F-9556-53BA6E5BF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08F1B-4890-42A3-BEEE-3163DD902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D2883-647C-4AC3-AB33-AA58D6ADF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71893-C2EE-4198-8CC3-436A60391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55810-CD8E-470A-98A2-CAF8CC7B0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C9B79-E8E9-4743-89A0-8622644A5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9A35D-D1F7-4E4A-9F02-C9AE25645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17EAD-6431-44BB-99BD-E9475350E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525E3-B11E-42FE-A18F-DED8FAA10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CDDCF-7668-497D-BE38-41D62EB6F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5AE6C-2E92-474D-A6EC-34FCD22E8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5406F-C8D0-442B-B445-C0C14ADBA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A270F-D09A-4C2B-BD0B-EED1E02DD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91325C-965B-400D-B563-A57B49ECB2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C4FEC1-1B81-46F2-AA61-7065C5ED4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585CA-9491-49DD-9565-9A3E5BCA6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4B008-495D-441E-959B-FDA4110FA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73B0F-73D7-4A51-BCA2-4073DC6FEC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3049E-5907-4BE9-9B8B-3D17A4973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D7DC5-613A-417D-80FF-DCD6B2FFB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DB41D-D952-4FA7-83CD-7E14BC8E0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255C2-E47F-4F8C-BB9F-EE9E9941D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318F9-EC58-4859-9CA6-261A92418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8CE66C-486F-4BF6-B9F4-C069D93A1D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DE9DC6-9057-4A8E-B980-B6A79A2EFB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FB25C1-5EF4-4F78-84E3-FAB11E0E67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026A23-6C14-494F-85FB-CDDFBF1C27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BCB0C-32DE-403A-A15E-09B53CF62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BFA7E-3487-4692-BFB3-2E764CA1B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B634E-026C-4552-92FA-8E9BFCFE5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9077AB-5863-496A-BB8C-F5844579C6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5CAA3B-5283-498D-80E4-F2C493251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6A143F-DB8B-449A-8889-95049D9C48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5417E-4089-4878-A398-05B201EB2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843EF-97C1-4DD1-AE3C-DFEE7BE12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F8DF4-B913-435F-8A14-26F971A34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45A14-6BF1-4562-8EB5-4CB1E7268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8708AB-4A6C-46E1-B69F-9374CA7227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D047CE-A5B1-474B-82B1-C9ECAE9927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92273-823C-4DBC-B6FC-2A81A82E2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3B1E5-1B70-429C-97F8-DD4EC6728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B468E-CD21-47F3-963B-A715773BE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1D83A-AA70-47E9-86C3-D5B965AEB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90EF-05E7-4F86-B1F2-4909A75FB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868F-F161-4123-A028-0FABD1791CC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A067-52FA-4398-ACEF-C686CCA16CA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591A-154F-4499-A2AC-C58316D3553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F9E5-5500-4B8B-94AF-0F9EF1ED6DD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109440" y="1365120"/>
            <a:ext cx="872964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ich Veit</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Judy Nye</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aura Jannone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eneral Resources</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eshman Seminar: Info, Resources, Skills, &amp; Training (FIR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Year at Monmouth Resource Libra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ources for Transitions</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tructor Training in Ma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How is College Different from High Scho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uest Speaker Databa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sources for Ethics and Critical Thinking</a:t>
            </a:r>
            <a:endParaRPr b="0" lang="en-US" sz="45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Re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int Re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eb Seminar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fered every semes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xt Month:</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ril 2: E-learning Study Skills: Keeping yourself and your students ahead of the curv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pril 7: Fired Up or Burned Out? Teaching Strategies to Help First-Year Seminar Instructors Rekindle Their Enthusias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er Advisor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st you with your class and help your students adjust to campus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phomores, juniors, seniors who have taken the course or are active leaders on campu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st a variety of ways; it's up to you and your Peer Advisor to find how you will best complement one anoth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commend a student or select from a pool of qualified stude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er Advisor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aison between students and profess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ole model for stud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ing assista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id hour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pproval Process</a:t>
            </a:r>
            <a:br>
              <a:rPr sz="4500"/>
            </a:br>
            <a:r>
              <a:rPr b="0" lang="en-US" sz="4500" spc="-1" strike="noStrike">
                <a:solidFill>
                  <a:srgbClr val="04617b"/>
                </a:solidFill>
                <a:latin typeface="Calibri"/>
              </a:rPr>
              <a:t>Faculty Activities</a:t>
            </a:r>
            <a:endParaRPr b="0" lang="en-US" sz="45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b 2009 -Working groups begin to receive syllabi for their review to see of courses meet the approved learning outcomes, working group recommendations to be sent GEO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y 2009- New &amp; revised syllabi presented @ Undergraduate Studies Committee by academic departments following the approval by GEO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v 2009- course schedule for summer 2010, fall 2010 &amp; spring 2011 complet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a New First-Year Seminar</a:t>
            </a: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year seminars are offered at more than 95% of American colleges and universit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have a significant impact on retention ra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led to more meaningful student-faculty interac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lead to better student performance and higher grad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lead to more student engage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The First-Year Seminar: Then and Now</a:t>
            </a:r>
            <a:endParaRPr b="0" lang="en-US" sz="4000" spc="-1" strike="noStrike">
              <a:solidFill>
                <a:srgbClr val="04617b"/>
              </a:solidFill>
              <a:latin typeface="Calibri"/>
            </a:endParaRPr>
          </a:p>
        </p:txBody>
      </p:sp>
      <p:sp>
        <p:nvSpPr>
          <p:cNvPr id="207"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n</a:t>
            </a:r>
            <a:r>
              <a:rPr b="0" lang="en-US" sz="2200" spc="-1" strike="noStrike">
                <a:solidFill>
                  <a:srgbClr val="000000"/>
                </a:solidFill>
                <a:latin typeface="Constantia"/>
              </a:rPr>
              <a:t>	</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e-Credit Experienc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ptional Cours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cus on Transition to College</a:t>
            </a:r>
            <a:endParaRPr b="0" lang="en-US" sz="20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08" name="PlaceHolder 3"/>
          <p:cNvSpPr>
            <a:spLocks noGrp="1"/>
          </p:cNvSpPr>
          <p:nvPr>
            <p:ph/>
          </p:nvPr>
        </p:nvSpPr>
        <p:spPr>
          <a:xfrm>
            <a:off x="464832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w</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ree-Credit Experienc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quired Cours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cus on Academic Content, Transition to College, and Ethics</a:t>
            </a:r>
            <a:endParaRPr b="0" lang="en-US" sz="20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tionale for the Course</a:t>
            </a: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dress the Ethics Learning Go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dress the Transition to Colle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courage Meaningful Contact with Facul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ize Students into Academic Cult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hare Your Passion About Your Discipline</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r Hopes</a:t>
            </a: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llenging Courses on Interesting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urses that are Clearly Different than High School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urses Taught by Engaging and Caring Facul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YS Outcome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First Year Seminar’s primary purposes are to stimulate our students’ academic curiosity and serve as a foundation for their transition into the intellectual life of the university. This course will allow professors to engage students in scholarly inquiry founded within the faculty member’s interests and expertise but not necessarily limited by disciplinary boundaries nor content requirements. Similar to the model currently used for perspectives courses, faculty will have the opportunity to teach a variety of academic topics while addressing important issues for first-year students.  Thus, each First Year Seminar will address a common set of three components: Academic, Ethics, and Transitio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2190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Outcomes for the Academic Component of the First Year Seminar </a:t>
            </a:r>
            <a:br>
              <a:rPr sz="4500"/>
            </a:br>
            <a:endParaRPr b="0" lang="en-US" sz="4500" spc="-1" strike="noStrike">
              <a:solidFill>
                <a:srgbClr val="04617b"/>
              </a:solidFill>
              <a:latin typeface="Calibri"/>
            </a:endParaRPr>
          </a:p>
        </p:txBody>
      </p:sp>
      <p:sp>
        <p:nvSpPr>
          <p:cNvPr id="216" name=""/>
          <p:cNvSpPr txBox="1"/>
          <p:nvPr/>
        </p:nvSpPr>
        <p:spPr>
          <a:xfrm>
            <a:off x="457200" y="2437920"/>
            <a:ext cx="8229600" cy="3886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demonstrate critical thinking as they actively engage in course materi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be able to seek out, evaluate and integrate information from multiple sources based on a course topic.</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3000"/>
            <a:ext cx="8229600" cy="1828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Outcomes for the Ethics Component of the First Year Seminar</a:t>
            </a:r>
            <a:br>
              <a:rPr sz="4500"/>
            </a:br>
            <a:endParaRPr b="0" lang="en-US" sz="4500" spc="-1" strike="noStrike">
              <a:solidFill>
                <a:srgbClr val="04617b"/>
              </a:solidFill>
              <a:latin typeface="Calibri"/>
            </a:endParaRPr>
          </a:p>
        </p:txBody>
      </p:sp>
      <p:sp>
        <p:nvSpPr>
          <p:cNvPr id="218" name=""/>
          <p:cNvSpPr txBox="1"/>
          <p:nvPr/>
        </p:nvSpPr>
        <p:spPr>
          <a:xfrm>
            <a:off x="457200" y="2590560"/>
            <a:ext cx="8229600" cy="37335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demonstrate awareness of ethical debates pertaining to the course top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demonstrate awareness of ethical considerations of academic lif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2266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Outcomes for the Transition Component of the First Year Seminar</a:t>
            </a:r>
            <a:br>
              <a:rPr sz="4500"/>
            </a:br>
            <a:endParaRPr b="0" lang="en-US" sz="4500" spc="-1" strike="noStrike">
              <a:solidFill>
                <a:srgbClr val="04617b"/>
              </a:solidFill>
              <a:latin typeface="Calibri"/>
            </a:endParaRPr>
          </a:p>
        </p:txBody>
      </p:sp>
      <p:sp>
        <p:nvSpPr>
          <p:cNvPr id="220" name=""/>
          <p:cNvSpPr txBox="1"/>
          <p:nvPr/>
        </p:nvSpPr>
        <p:spPr>
          <a:xfrm>
            <a:off x="457200" y="2590560"/>
            <a:ext cx="8229600" cy="3809880"/>
          </a:xfrm>
          <a:prstGeom prst="rect">
            <a:avLst/>
          </a:prstGeom>
          <a:noFill/>
          <a:ln w="0">
            <a:noFill/>
          </a:ln>
        </p:spPr>
        <p:txBody>
          <a:bodyPr lIns="90000" rIns="90000" tIns="46800" bIns="46800" anchor="t">
            <a:normAutofit fontScale="98000"/>
          </a:bodyPr>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2200" spc="-1" strike="noStrike">
                <a:solidFill>
                  <a:srgbClr val="000000"/>
                </a:solidFill>
                <a:latin typeface="Constantia"/>
              </a:rPr>
              <a:t>Students will articulate and evaluate their experience with college resources (such as but not necessarily limited to one academic and one non academic resource).</a:t>
            </a:r>
            <a:endParaRPr b="0" lang="en-US" sz="2200" spc="-1" strike="noStrike">
              <a:solidFill>
                <a:srgbClr val="000000"/>
              </a:solidFill>
              <a:latin typeface="Constantia"/>
            </a:endParaRPr>
          </a:p>
          <a:p>
            <a:pPr marL="26712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udents will demonstrate strategies for improving academic skills (such as but not necessarily limited to time management, stress management, and study skills).</a:t>
            </a:r>
            <a:endParaRPr b="0" lang="en-US" sz="2200" spc="-1" strike="noStrike">
              <a:solidFill>
                <a:srgbClr val="000000"/>
              </a:solidFill>
              <a:latin typeface="Constantia"/>
            </a:endParaRPr>
          </a:p>
          <a:p>
            <a:pPr marL="26712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udents will demonstrate an understanding of academic culture and its norms, values, and practices, including the differences between college and high school intellectual activity and work.</a:t>
            </a:r>
            <a:endParaRPr b="0" lang="en-US" sz="22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4:39:20Z</dcterms:created>
  <dc:creator>Giordano Robert</dc:creator>
  <dc:description/>
  <dc:language>en-US</dc:language>
  <cp:lastModifiedBy>Giordano Robert</cp:lastModifiedBy>
  <dcterms:modified xsi:type="dcterms:W3CDTF">2009-04-16T21:03:29Z</dcterms:modified>
  <cp:revision>6</cp:revision>
  <dc:subject/>
  <dc:title>FirstYearSeminarCour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612352</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1-11-08T20:06:27Z</vt:filetime>
  </property>
  <property fmtid="{D5CDD505-2E9C-101B-9397-08002B2CF9AE}" pid="8" name="EktDateModified">
    <vt:filetime>2011-11-09T16:50:50Z</vt:filetime>
  </property>
  <property fmtid="{D5CDD505-2E9C-101B-9397-08002B2CF9AE}" pid="9" name="EktDisabledTaxCategory">
    <vt:lpwstr/>
  </property>
  <property fmtid="{D5CDD505-2E9C-101B-9397-08002B2CF9AE}" pid="10" name="EktEDescription">
    <vt:lpwstr>&amp;lt;p&amp;gt;Rich Veit Judy Nye Laura Jannone Why a New First-Year Seminar First-year seminars are offered at more than 95% of American colleges and universities They have a significant impact on retention rates They led to more meaningful student-faculty interactions They lead to better student performance and higher grades They &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14855</vt:lpwstr>
  </property>
  <property fmtid="{D5CDD505-2E9C-101B-9397-08002B2CF9AE}" pid="14" name="EktSearchable">
    <vt:r8>1</vt:r8>
  </property>
  <property fmtid="{D5CDD505-2E9C-101B-9397-08002B2CF9AE}" pid="15" name="EktTaxCategory">
    <vt:lpwstr/>
  </property>
</Properties>
</file>