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F115-ACCD-41D3-B998-668F1A87349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5AC1-70D0-4218-8CA5-C53E27A942C2}"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ABFC0-B8C7-4C88-B261-5D1F15345C48}"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DA32-08F6-482F-BB6F-3F28911319E8}"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EBDC9-4EA8-46EC-9A90-6A7EFE8B6513}"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4E71-B034-4065-A1F9-A5C5F6C4BFC2}"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B2F0-D53D-44E1-9D4E-3FFD2D65D11D}"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7CBBA-4AF6-456E-98B9-A750D87F8D19}"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0E53-7DA1-45D4-B994-3BC54D13E3B1}"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4063B-0AF8-44F1-8287-A6CD19427703}"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ED658-82E8-4F8B-8909-41AFDCBB663F}"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0C473-42AA-48F5-99BB-8EB11945B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CC4EE-78FB-43B9-80FE-356AB0122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2C290-DE88-47FF-958D-26CA2D9E6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B850B-8F02-45AD-BCC7-B9BF4CF68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D5439-42CE-42F1-9351-FCA8551F0C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9DAF6-F2E3-4EE9-A924-6A3C03669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90D2F-6609-47B1-80AA-7B663CDC9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CEDEA-BA6F-4FF7-808A-880763C6F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35F17-0BB0-42AE-9F88-A00F3E01A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8FF08-9728-4A87-8C8D-57C1117EA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24A81-2AC3-433F-B253-5E6B152D0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A45DD-0F5F-4034-9355-1347F5528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176CF-A339-48C5-9441-4E657D3C9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C3CCB-FE18-48F2-BAB7-76E150E94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587F9-47DC-4054-8429-79E2441F2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2AFBA-91A7-430F-B59E-494C7E9F5D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6A3D36-DBAD-4E93-A01F-5CE1A2B815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DC6B49-5479-4393-88C1-8AA141A3E6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9944B0-89D2-47AB-9BBA-BB27493898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D34BB1-7354-4BC7-94D9-0F4E513A13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F6D2AC-5E6B-4600-BF0A-BAA6B00DF0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C8BE7F-B161-448A-9113-BF182CAD28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C955A-5153-4D0C-AC1E-6644392CD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71CA4A-A10E-4A52-9187-921B319533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ECEC0D-6443-4C23-9ADC-C3BA3F79CC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25DC7B-1486-482E-8E50-87E7D0CA80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514774-6C89-49E1-949E-31BB486B4E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423957-C5B1-4B32-97CF-CAD3C00549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539752-C039-4E68-9BEA-C43A600E9D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C8D958-4F0D-48B2-B1FE-AF7B482A69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09B758-3BD9-496B-AE4E-F90DE27905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D01C3E-288E-4270-87B1-25E018CF41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7C4AE4-C084-4173-BC2F-C2EF290DF4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23258-5F22-4C3B-91A5-D741F4ABD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363E04-8B6D-423C-9DC5-573A46A523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E72890-C3B4-4371-9453-14C8BE438A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1F2B69-63A8-4C57-92B5-67BFC42CAC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51FD34-91D8-48F8-8E74-C7449ADE59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968C81-D290-4736-9D9A-E452B878F9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FC95C5-CA89-4D38-8003-A9AB06C728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ECFC72-CD5F-4FC8-B327-50DE69687A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4A16A2-9907-4F87-9174-C89CD49C99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E36E9D-3A20-445A-AFBD-58BC346129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233B6-0145-48F4-8561-73EAA89A1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0D51D-105D-4D95-B466-E17D5C72E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5F153-59B9-45FA-AD4D-926115F82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97827-9AAD-4357-A6A3-28128C264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962D5-8E5F-4217-94A1-6AD0D8635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69E85-DD27-48CF-AC60-BA82B652488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4DD68-FD1B-462A-A588-BDB492CF8A6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23842-A3D3-4E8C-A818-EDD2953D373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73C42-005A-4AB7-801E-FD6F43436F9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109440" y="1365120"/>
            <a:ext cx="872964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ich Veit</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Judy Nye</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aura Jannone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eneral Resources</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eshman Seminar: Info, Resources, Skills, &amp; Training (FIRS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rst Year at Monmouth Resource Librar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sources for Transitions</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structor Training in Ma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How is College Different from High Schoo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uest Speaker Databas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sources for Ethics and Critical Thinking</a:t>
            </a:r>
            <a:endParaRPr b="0" lang="en-US" sz="45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line Resour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int Resour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eb Seminars</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ffered every semest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xt Month:</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pril 2: E-learning Study Skills: Keeping yourself and your students ahead of the curve!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pril 7: Fired Up or Burned Out? Teaching Strategies to Help First-Year Seminar Instructors Rekindle Their Enthusias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eer Advisors</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ist you with your class and help your students adjust to campus lif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phomores, juniors, seniors who have taken the course or are active leaders on campu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ist a variety of ways; it's up to you and your Peer Advisor to find how you will best complement one anoth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commend a student or select from a pool of qualified studen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eer Advisors</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aison between students and professo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ole model for stude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ing assista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id hourl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pproval Process</a:t>
            </a:r>
            <a:br>
              <a:rPr sz="4500"/>
            </a:br>
            <a:r>
              <a:rPr b="0" lang="en-US" sz="4500" spc="-1" strike="noStrike">
                <a:solidFill>
                  <a:srgbClr val="04617b"/>
                </a:solidFill>
                <a:latin typeface="Calibri"/>
              </a:rPr>
              <a:t>Faculty Activities</a:t>
            </a:r>
            <a:endParaRPr b="0" lang="en-US" sz="45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eb 2009 -Working groups begin to receive syllabi for their review to see of courses meet the approved learning outcomes, working group recommendations to be sent GEO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y 2009- New &amp; revised syllabi presented @ Undergraduate Studies Committee by academic departments following the approval by GEO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v 2009- course schedule for summer 2010, fall 2010 &amp; spring 2011 complete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y a New First-Year Seminar</a:t>
            </a:r>
            <a:endParaRPr b="0" lang="en-US" sz="5000" spc="-1" strike="noStrike">
              <a:solidFill>
                <a:srgbClr val="04617b"/>
              </a:solidFill>
              <a:latin typeface="Calibri"/>
            </a:endParaRPr>
          </a:p>
        </p:txBody>
      </p:sp>
      <p:sp>
        <p:nvSpPr>
          <p:cNvPr id="20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rst-year seminars are offered at more than 95% of American colleges and universit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have a significant impact on retention ra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led to more meaningful student-faculty interac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lead to better student performance and higher grad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lead to more student engagemen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The First-Year Seminar: Then and Now</a:t>
            </a:r>
            <a:endParaRPr b="0" lang="en-US" sz="4000" spc="-1" strike="noStrike">
              <a:solidFill>
                <a:srgbClr val="04617b"/>
              </a:solidFill>
              <a:latin typeface="Calibri"/>
            </a:endParaRPr>
          </a:p>
        </p:txBody>
      </p:sp>
      <p:sp>
        <p:nvSpPr>
          <p:cNvPr id="207" name="PlaceHolder 2"/>
          <p:cNvSpPr>
            <a:spLocks noGrp="1"/>
          </p:cNvSpPr>
          <p:nvPr>
            <p:ph/>
          </p:nvPr>
        </p:nvSpPr>
        <p:spPr>
          <a:xfrm>
            <a:off x="457200" y="1934640"/>
            <a:ext cx="403848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n</a:t>
            </a:r>
            <a:r>
              <a:rPr b="0" lang="en-US" sz="2200" spc="-1" strike="noStrike">
                <a:solidFill>
                  <a:srgbClr val="000000"/>
                </a:solidFill>
                <a:latin typeface="Constantia"/>
              </a:rPr>
              <a:t>	</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ne-Credit Experience</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ptional Course</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cus on Transition to College</a:t>
            </a:r>
            <a:endParaRPr b="0" lang="en-US" sz="20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08" name="PlaceHolder 3"/>
          <p:cNvSpPr>
            <a:spLocks noGrp="1"/>
          </p:cNvSpPr>
          <p:nvPr>
            <p:ph/>
          </p:nvPr>
        </p:nvSpPr>
        <p:spPr>
          <a:xfrm>
            <a:off x="4648320" y="1934640"/>
            <a:ext cx="403848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ow</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ree-Credit Experience</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quired Course</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cus on Academic Content, Transition to College, and Ethics</a:t>
            </a:r>
            <a:endParaRPr b="0" lang="en-US" sz="20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ationale for the Course</a:t>
            </a:r>
            <a:endParaRPr b="0" lang="en-US" sz="5000" spc="-1" strike="noStrike">
              <a:solidFill>
                <a:srgbClr val="04617b"/>
              </a:solidFill>
              <a:latin typeface="Calibri"/>
            </a:endParaRPr>
          </a:p>
        </p:txBody>
      </p:sp>
      <p:sp>
        <p:nvSpPr>
          <p:cNvPr id="21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dress the Ethics Learning Go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dress the Transition to Colleg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ncourage Meaningful Contact with Facul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cialize Students into Academic Cultu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hare Your Passion About Your Discipline</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ur Hopes</a:t>
            </a: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allenging Courses on Interesting Cour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urses that are Clearly Different than High School Cour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urses Taught by Engaging and Caring Facult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YS Outcomes</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First Year Seminar’s primary purposes are to stimulate our students’ academic curiosity and serve as a foundation for their transition into the intellectual life of the university. This course will allow professors to engage students in scholarly inquiry founded within the faculty member’s interests and expertise but not necessarily limited by disciplinary boundaries nor content requirements. Similar to the model currently used for perspectives courses, faculty will have the opportunity to teach a variety of academic topics while addressing important issues for first-year students.  Thus, each First Year Seminar will address a common set of three components: Academic, Ethics, and Transitio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21906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Outcomes for the Academic Component of the First Year Seminar </a:t>
            </a:r>
            <a:br>
              <a:rPr sz="4500"/>
            </a:br>
            <a:endParaRPr b="0" lang="en-US" sz="4500" spc="-1" strike="noStrike">
              <a:solidFill>
                <a:srgbClr val="04617b"/>
              </a:solidFill>
              <a:latin typeface="Calibri"/>
            </a:endParaRPr>
          </a:p>
        </p:txBody>
      </p:sp>
      <p:sp>
        <p:nvSpPr>
          <p:cNvPr id="216" name=""/>
          <p:cNvSpPr txBox="1"/>
          <p:nvPr/>
        </p:nvSpPr>
        <p:spPr>
          <a:xfrm>
            <a:off x="457200" y="2437920"/>
            <a:ext cx="8229600" cy="38862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ill demonstrate critical thinking as they actively engage in course materi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ill be able to seek out, evaluate and integrate information from multiple sources based on a course topic.</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3000"/>
            <a:ext cx="8229600" cy="1828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Outcomes for the Ethics Component of the First Year Seminar</a:t>
            </a:r>
            <a:br>
              <a:rPr sz="4500"/>
            </a:br>
            <a:endParaRPr b="0" lang="en-US" sz="4500" spc="-1" strike="noStrike">
              <a:solidFill>
                <a:srgbClr val="04617b"/>
              </a:solidFill>
              <a:latin typeface="Calibri"/>
            </a:endParaRPr>
          </a:p>
        </p:txBody>
      </p:sp>
      <p:sp>
        <p:nvSpPr>
          <p:cNvPr id="218" name=""/>
          <p:cNvSpPr txBox="1"/>
          <p:nvPr/>
        </p:nvSpPr>
        <p:spPr>
          <a:xfrm>
            <a:off x="457200" y="2590560"/>
            <a:ext cx="8229600" cy="37335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ill demonstrate awareness of ethical debates pertaining to the course top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ill demonstrate awareness of ethical considerations of academic lif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2266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Outcomes for the Transition Component of the First Year Seminar</a:t>
            </a:r>
            <a:br>
              <a:rPr sz="4500"/>
            </a:br>
            <a:endParaRPr b="0" lang="en-US" sz="4500" spc="-1" strike="noStrike">
              <a:solidFill>
                <a:srgbClr val="04617b"/>
              </a:solidFill>
              <a:latin typeface="Calibri"/>
            </a:endParaRPr>
          </a:p>
        </p:txBody>
      </p:sp>
      <p:sp>
        <p:nvSpPr>
          <p:cNvPr id="220" name=""/>
          <p:cNvSpPr txBox="1"/>
          <p:nvPr/>
        </p:nvSpPr>
        <p:spPr>
          <a:xfrm>
            <a:off x="457200" y="2590560"/>
            <a:ext cx="8229600" cy="3809880"/>
          </a:xfrm>
          <a:prstGeom prst="rect">
            <a:avLst/>
          </a:prstGeom>
          <a:noFill/>
          <a:ln w="0">
            <a:noFill/>
          </a:ln>
        </p:spPr>
        <p:txBody>
          <a:bodyPr lIns="90000" rIns="90000" tIns="46800" bIns="46800" anchor="t">
            <a:normAutofit fontScale="98000"/>
          </a:bodyPr>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2200" spc="-1" strike="noStrike">
                <a:solidFill>
                  <a:srgbClr val="000000"/>
                </a:solidFill>
                <a:latin typeface="Constantia"/>
              </a:rPr>
              <a:t>Students will articulate and evaluate their experience with college resources (such as but not necessarily limited to one academic and one non academic resource).</a:t>
            </a:r>
            <a:endParaRPr b="0" lang="en-US" sz="2200" spc="-1" strike="noStrike">
              <a:solidFill>
                <a:srgbClr val="000000"/>
              </a:solidFill>
              <a:latin typeface="Constantia"/>
            </a:endParaRPr>
          </a:p>
          <a:p>
            <a:pPr marL="267120" indent="-267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udents will demonstrate strategies for improving academic skills (such as but not necessarily limited to time management, stress management, and study skills).</a:t>
            </a:r>
            <a:endParaRPr b="0" lang="en-US" sz="2200" spc="-1" strike="noStrike">
              <a:solidFill>
                <a:srgbClr val="000000"/>
              </a:solidFill>
              <a:latin typeface="Constantia"/>
            </a:endParaRPr>
          </a:p>
          <a:p>
            <a:pPr marL="267120" indent="-267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udents will demonstrate an understanding of academic culture and its norms, values, and practices, including the differences between college and high school intellectual activity and work.</a:t>
            </a:r>
            <a:endParaRPr b="0" lang="en-US" sz="2200" spc="-1" strike="noStrike">
              <a:solidFill>
                <a:srgbClr val="000000"/>
              </a:solidFill>
              <a:latin typeface="Constantia"/>
            </a:endParaRPr>
          </a:p>
          <a:p>
            <a:pPr marL="267120" indent="-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5T14:39:20Z</dcterms:created>
  <dc:creator>Giordano Robert</dc:creator>
  <dc:description/>
  <dc:language>en-US</dc:language>
  <cp:lastModifiedBy>Giordano Robert</cp:lastModifiedBy>
  <dcterms:modified xsi:type="dcterms:W3CDTF">2009-04-16T21:03:29Z</dcterms:modified>
  <cp:revision>6</cp:revision>
  <dc:subject/>
  <dc:title>FirstYearSeminarCour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612352</vt:r8>
  </property>
  <property fmtid="{D5CDD505-2E9C-101B-9397-08002B2CF9AE}" pid="4" name="EktContentLanguage">
    <vt:r8>1033</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1-11-08T20:06:27Z</vt:filetime>
  </property>
  <property fmtid="{D5CDD505-2E9C-101B-9397-08002B2CF9AE}" pid="8" name="EktDateModified">
    <vt:filetime>2011-11-09T16:50:50Z</vt:filetime>
  </property>
  <property fmtid="{D5CDD505-2E9C-101B-9397-08002B2CF9AE}" pid="9" name="EktDisabledTaxCategory">
    <vt:lpwstr/>
  </property>
  <property fmtid="{D5CDD505-2E9C-101B-9397-08002B2CF9AE}" pid="10" name="EktEDescription">
    <vt:lpwstr>&amp;lt;p&amp;gt;Rich Veit Judy Nye Laura Jannone Why a New First-Year Seminar First-year seminars are offered at more than 95% of American colleges and universities They have a significant impact on retention rates They led to more meaningful student-faculty interactions They lead to better student performance and higher grades They &amp;lt;/p&amp;gt;</vt:lpwstr>
  </property>
  <property fmtid="{D5CDD505-2E9C-101B-9397-08002B2CF9AE}" pid="11" name="EktExpiryType">
    <vt:r8>1</vt:r8>
  </property>
  <property fmtid="{D5CDD505-2E9C-101B-9397-08002B2CF9AE}" pid="12" name="EktFolderName">
    <vt:lpwstr/>
  </property>
  <property fmtid="{D5CDD505-2E9C-101B-9397-08002B2CF9AE}" pid="13" name="EktQuickLink">
    <vt:lpwstr>DownloadAsset.aspx?id=14855</vt:lpwstr>
  </property>
  <property fmtid="{D5CDD505-2E9C-101B-9397-08002B2CF9AE}" pid="14" name="EktSearchable">
    <vt:r8>1</vt:r8>
  </property>
  <property fmtid="{D5CDD505-2E9C-101B-9397-08002B2CF9AE}" pid="15" name="EktTaxCategory">
    <vt:lpwstr/>
  </property>
</Properties>
</file>